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0D34-9646-40A3-82AD-2F122752C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BE6-2CD1-4C27-B0B6-EAD4226DD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6F-AA88-4C2D-ADFA-50D0782C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954-B18D-44E8-8613-8E3EC1E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AEF14-13CF-4EEB-B37B-26C834BA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C1853-DD76-4C58-BBBF-00B2768B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F0E39-FE8D-4748-856F-CA92F953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687A8-839A-4632-AC37-E285A7B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8CCBF-A16D-4E4C-948A-5029D54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3B96A-F7B8-420E-8A42-1614AE7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10A4B-95FC-4634-9D6F-7761337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5EFAA-BF6E-4227-AE9F-FFD037DA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CD5E4-2E6D-466D-A857-43FA859F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C7C9B-D7D3-4ECE-99BE-90781A22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3FB-CF3D-49B6-9CC6-91A67C54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DCF0B-7D90-492A-AC0E-6AF809DC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4E13A-21AD-4D69-85F4-522ACFB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7AF6D-87DF-4EDD-BD0A-5D084B4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7AB83-EB7C-4BDC-8D6F-0E805782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5C3F3-BFD7-421F-B6EC-9AB98B61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44B44-E69F-4E99-A84E-D95F387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014CD-F170-4635-A699-01DAECC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80B60-AFC8-4D05-BCFB-DEF54A1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C198E-FCBE-4058-BB7C-6F11FB4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AED6E-F28A-4B59-AA71-B5A4C3D9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C78-53B0-45B8-BF8A-244F9A6B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EC50A-FA09-45C2-AC0F-F324BEEA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A248-6130-4FDE-81FA-919FCC2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2E6F5-F6BA-4544-969C-2D6ECCE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220C-E6F9-4A43-AB24-91F2ECF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E6BBC-3558-44EB-9AC4-6F01B16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13148-B193-42CA-B832-003D9923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106C-A025-4E4F-B973-1E66F87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02B45-41D2-46A5-B6EA-9BA178F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13D6-72C1-4B8A-854C-21C6E40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64F7-0FBE-44C0-B87E-09BA411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D373-95A6-4640-A93C-8038EC5E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87DB-917B-4696-91D5-FBD188A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ADA2A-EE79-4957-8843-CE38CE30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97F36-6541-4C3C-8006-8F0A8AC7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7DDD9-091A-479D-900E-2FFDD629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8613E-B9D3-4135-A928-D0A1523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8B3A1-AB56-42BD-917A-DFAB92A6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C0FA6-AF2F-44E4-B3D7-37BE138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59B2B-AF2E-492C-9E15-917AF8E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23861-84F9-45BE-80BE-E501B1C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9DF35-88CC-4B03-BDA1-3745173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D85B-665E-4B4D-8A6F-41EC044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77BB3-74BC-420E-B3FE-B25AAD6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6EBA5-08B8-4C3B-8FBA-1472A03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AD8F4-CE3E-4CA9-B67C-5BE55CF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61DB9-3F2A-4B78-8FD3-CA48C44E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D1CF5-02A3-4304-93E1-95723445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2B23-614A-443E-B43F-B024EC9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870-A680-4671-B8EA-10849CD4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DDA-7900-41E7-BE08-651AACB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1859-7E45-47A2-9169-B8B5338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3032-4EB0-4D03-83DF-B640524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0C0-B54F-4646-B2E3-30E2807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BA8-EE0E-4EDE-880F-1AD552C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DA0-0806-4BC2-82F0-FA1A982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B08-BF93-4625-8DA1-25011E6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BD87-0839-44F7-8627-5B24EBF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9031-D365-425D-B544-534AF2E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89E2-3D0F-4CC4-AF37-9D921E8F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57F4-6BBD-4C31-B2D6-71448EA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3A68-712E-4281-9CEF-0A1ADF7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F90E-C42E-4289-8904-2B513AF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2DCF-0244-44D5-8F71-073A25D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4ED-64E6-45BC-A83D-95680FE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894E-7340-4A4A-8831-4F9CD5B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1DDE-3A31-464C-B4CA-B46506F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6056-55A8-4E81-85C4-66ECD9D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9333-540B-466C-B319-751D800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8FE7-74D8-4EAB-888A-43805609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1E1D-DD16-47A4-8379-F9807D1C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6948-4BE5-455B-A78D-097A0B52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CD58-F4A4-4D34-A78F-B25BB1BC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2B0A-155F-4AB8-BB48-78E0CBD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61AD-7519-4470-9E14-6079C2B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1FF-8CE0-40D7-8E61-DD01910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F5A1-30BC-43B0-9D83-4E329CCF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393B-10A9-41CB-837D-137945B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F75B-BEE3-4DD0-B54F-097D7EF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C2BC-5697-421E-8865-7F7F734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956D-C427-4344-BB73-573984E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BC33-D3B2-4089-9DCA-D8F9E3A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CE20-3745-4F36-A239-81E9F75B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64F3-2E22-44EC-9739-7F2100A3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FB9A-CF4E-4038-8E46-01AD65A7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DF9C-C27D-4C7D-ACC8-96818EBB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F5A-1883-447D-BF96-3944F12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E0D5-EF01-4CD3-81D6-04EF6FBE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8E45-6072-4B99-B92D-E99B97B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5DA2-7178-4ADC-ACE4-CB53B6AC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B678-C2A3-4036-981D-2AAE96A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50DE-BD86-4606-97AE-0E30B272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6317-3013-4DB6-853A-7544308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DC25-0982-4828-84AA-386E2CF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544A-4037-4C2E-BE31-9242FDE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1E36-DD16-4F43-91BF-1D7D530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A4A2-A8AC-40D1-979B-A34682A3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DC2-A615-47E1-906F-8238E56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78C9A-7D5E-438E-AE38-03324D76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680D-9E49-4BAB-BC4E-47D8ECCF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0F97E-98E9-42AF-BD1A-73F610D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77D2D-EDDA-4AF6-BE82-71504547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2A51-D3E1-499B-B52A-645FFD6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85AA-7559-433D-9462-3ABBA95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7518-0A9C-4865-A217-D31EB4C5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292E1-2F8C-46E6-ACDB-9024CA09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50FEB-CBE9-48A0-8030-1CCCFB2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9D63-193E-45BB-887A-D0133DE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26B-A237-4D49-ADB2-BF52C2B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408B-614F-4806-B84A-A47C470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89446-A9CC-4842-B99C-58533FA4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B78B9-160A-4AD4-8FCA-7E193796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33D3-96D0-47D5-9BD3-C652987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953C-9729-484A-948B-731AA01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942A-48FD-4CBB-83B9-A2DE9148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3929-70D0-408D-BDB2-51F4E5C0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B286-A806-433C-8FC4-0C794831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503D-8ABB-488D-8F72-13D4813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0DCC-B0A7-48CB-8D8E-0E901E2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BB-1802-4600-B6C2-E3306A0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604D5-C8B1-411C-871C-9895E69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A4CE-FA6B-45E9-B9E9-E811DA0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609B4-B467-41AE-9DE6-7FE56EC0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B999D-54D0-4DD1-8C78-F1B9BE77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9890-5BE6-4008-B23B-06D2A5F8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8CE3-62F1-4490-B4F6-A58701E3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4F17A-E5D0-4EAD-8CFF-E41BED6D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2B37-517E-4020-895C-F34FC66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3580-6377-442E-9FE5-65CF1CC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3AD4-BC5C-4BAC-AA5F-EEB76E6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43C-9577-4340-BA24-C25F8E4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63B4A-E52D-4F69-893E-77B5A3B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80BA-A0DD-466B-9792-A5E0A05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01BD-B182-4377-AD3D-F9AC81C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4EE0-73DB-4146-A5EB-4E6FC16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7A079-0A8F-4FAC-8B37-E43B2BC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FBDB8-09A8-4CD4-A91D-DB10854D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8FEB-5AD1-4AD8-896C-A72E565C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B4A16-A1BA-4703-8455-57CF26F7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0099A-C8AD-4192-B2A6-874DF2D8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A7642-34AA-4494-BA48-6BE1CE7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97B-035B-4695-BFE0-625B6C2FFA6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D478-C326-4530-83D4-0FE6DC1DA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D825-0670-485B-A8E4-522F6F27B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B4E9-9DE0-4AB4-8784-230B9FCEF0E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5BF-B8C6-4DE7-8F6C-9471D578B88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99F7-51E9-453F-AC19-F58EEAE90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6C2-2A75-4844-82F0-C45DD4A8B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45F-524E-4F3B-BA53-F1CE96BC7BB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1CB-C1FC-4F45-93A2-BC3FA6BE7D6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F8DF-B221-4CBF-81C6-195589536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808-23F5-4F3F-AB74-012AA8117E7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2AA-6136-40F6-A932-718504269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F63-BF38-47D0-84A9-29FFBB6066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E56-129E-4048-A936-461D5ABD4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D6C-0F55-4709-9165-8AD8FD39904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DFF-17E8-470D-AFC2-0EA14BC97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5248-A28A-4A1E-9615-56283747895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F26-4695-42F2-BA5B-0923DE09B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586-494C-479D-B2EA-3EF27A3278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502-F2FA-45D3-A5F8-6805CCE85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FAB7-7F76-49A9-B638-16E8CBC308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836-7864-4200-A742-F789AEFAF1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D8F-DA7B-4FD4-8856-C9B029355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EB5-7BFB-4F2E-B1EC-72515FA79B0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46b86"/>
                </a:solidFill>
                <a:latin typeface="Georgia"/>
              </a:rPr>
              <a:t>HOW BUSINESSES USE CASH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ASH CONTROL SYSTE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OSITING CAS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3" descr="D:\C21 PowerPoint\Multi_Journal\art for blue\Ch06\Ch06-01a.jpg"/>
          <p:cNvPicPr/>
          <p:nvPr/>
        </p:nvPicPr>
        <p:blipFill>
          <a:blip r:embed="rId1"/>
          <a:srcRect l="0" t="0" r="0" b="19929"/>
          <a:stretch/>
        </p:blipFill>
        <p:spPr>
          <a:xfrm>
            <a:off x="457200" y="1752480"/>
            <a:ext cx="8226360" cy="393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17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OSIT RECORDED ON A CHECK STUB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3" descr="D:\C21 PowerPoint\Multi_Journal\art for blue\Ch06\Ch06-01b.jpg"/>
          <p:cNvPicPr/>
          <p:nvPr/>
        </p:nvPicPr>
        <p:blipFill>
          <a:blip r:embed="rId1"/>
          <a:srcRect l="0" t="0" r="16865" b="20629"/>
          <a:stretch/>
        </p:blipFill>
        <p:spPr>
          <a:xfrm>
            <a:off x="228600" y="1828800"/>
            <a:ext cx="3732120" cy="3809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20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4114800" y="177624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alance Brought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Deposited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ub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 need to Journalize Deposit S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 Receipts have already been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23104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DORSEM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3" descr="D:\C21 PowerPoint\Multi_Journal\art for blue\Ch06\Ch06-01c.jpg"/>
          <p:cNvPicPr/>
          <p:nvPr/>
        </p:nvPicPr>
        <p:blipFill>
          <a:blip r:embed="rId1"/>
          <a:srcRect l="0" t="0" r="11881" b="39472"/>
          <a:stretch/>
        </p:blipFill>
        <p:spPr>
          <a:xfrm>
            <a:off x="2516040" y="1143000"/>
            <a:ext cx="3427560" cy="157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24" name="Picture 4" descr="D:\C21 PowerPoint\Multi_Journal\art for blue\Ch06\Ch06-01d.jpg"/>
          <p:cNvPicPr/>
          <p:nvPr/>
        </p:nvPicPr>
        <p:blipFill>
          <a:blip r:embed="rId2"/>
          <a:srcRect l="0" t="0" r="13504" b="65612"/>
          <a:stretch/>
        </p:blipFill>
        <p:spPr>
          <a:xfrm>
            <a:off x="3583080" y="2749680"/>
            <a:ext cx="3427200" cy="1847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25" name="Picture 5" descr="D:\C21 PowerPoint\Multi_Journal\art for blue\Ch06\Ch06-01e.jpg"/>
          <p:cNvPicPr/>
          <p:nvPr/>
        </p:nvPicPr>
        <p:blipFill>
          <a:blip r:embed="rId3"/>
          <a:srcRect l="0" t="0" r="0" b="50287"/>
          <a:stretch/>
        </p:blipFill>
        <p:spPr>
          <a:xfrm>
            <a:off x="4649760" y="4637160"/>
            <a:ext cx="3427560" cy="153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26" name="Text Box 6"/>
          <p:cNvSpPr/>
          <p:nvPr/>
        </p:nvSpPr>
        <p:spPr>
          <a:xfrm>
            <a:off x="380880" y="1558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514600" y="5064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ive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447920" y="331956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2"/>
          <p:cNvSpPr/>
          <p:nvPr/>
        </p:nvSpPr>
        <p:spPr>
          <a:xfrm>
            <a:off x="4114800" y="35053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b400"/>
                </a:solidFill>
                <a:latin typeface="Arial"/>
              </a:rPr>
              <a:t>Preparing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6"/>
          <p:cNvSpPr/>
          <p:nvPr/>
        </p:nvSpPr>
        <p:spPr>
          <a:xfrm>
            <a:off x="4114800" y="3844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96920" y="352440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b400"/>
                </a:solidFill>
                <a:latin typeface="Arial"/>
              </a:rPr>
              <a:t>Preparing check st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ED CHECK STUB AND CHE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3" descr="D:\C21 PowerPoint\Multi_Journal\art for blue\Ch06\Ch06-01f.jpg"/>
          <p:cNvPicPr/>
          <p:nvPr/>
        </p:nvPicPr>
        <p:blipFill>
          <a:blip r:embed="rId1"/>
          <a:srcRect l="0" t="0" r="0" b="24336"/>
          <a:stretch/>
        </p:blipFill>
        <p:spPr>
          <a:xfrm>
            <a:off x="457200" y="914400"/>
            <a:ext cx="8229600" cy="2617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35" name="Text Box 4"/>
          <p:cNvSpPr/>
          <p:nvPr/>
        </p:nvSpPr>
        <p:spPr>
          <a:xfrm>
            <a:off x="196920" y="38624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6"/>
          <p:cNvSpPr/>
          <p:nvPr/>
        </p:nvSpPr>
        <p:spPr>
          <a:xfrm>
            <a:off x="117360" y="28954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2171880" y="1219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117360" y="1447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117360" y="9144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8458200" y="1676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6172200" y="1676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4"/>
          <p:cNvSpPr/>
          <p:nvPr/>
        </p:nvSpPr>
        <p:spPr>
          <a:xfrm>
            <a:off x="8458200" y="21337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4648320" y="26668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7924680" y="26668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2171880" y="685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5943600" y="1143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2819520" y="33526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0"/>
          <p:cNvSpPr/>
          <p:nvPr/>
        </p:nvSpPr>
        <p:spPr>
          <a:xfrm>
            <a:off x="193680" y="578016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new account bal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96920" y="54626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2"/>
          <p:cNvSpPr/>
          <p:nvPr/>
        </p:nvSpPr>
        <p:spPr>
          <a:xfrm>
            <a:off x="196920" y="512280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purpos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196920" y="41846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187200" y="453060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whom the check is to be pa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4114800" y="6037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4114800" y="4162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whom the check is to be pai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9"/>
          <p:cNvSpPr/>
          <p:nvPr/>
        </p:nvSpPr>
        <p:spPr>
          <a:xfrm>
            <a:off x="4114800" y="4765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in fig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30"/>
          <p:cNvSpPr/>
          <p:nvPr/>
        </p:nvSpPr>
        <p:spPr>
          <a:xfrm>
            <a:off x="4110120" y="5105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in w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4114800" y="5445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purpos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7124400" y="6171480"/>
            <a:ext cx="20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8-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7"/>
          <p:cNvGrpSpPr/>
          <p:nvPr/>
        </p:nvGrpSpPr>
        <p:grpSpPr>
          <a:xfrm>
            <a:off x="422280" y="1143000"/>
            <a:ext cx="8229600" cy="1550880"/>
            <a:chOff x="422280" y="1143000"/>
            <a:chExt cx="8229600" cy="1550880"/>
          </a:xfrm>
        </p:grpSpPr>
        <p:pic>
          <p:nvPicPr>
            <p:cNvPr id="660" name="Picture 3" descr="D:\C21 PowerPoint\Multi_Journal\art for blue\Ch06\Ch06-01g.jpg"/>
            <p:cNvPicPr/>
            <p:nvPr/>
          </p:nvPicPr>
          <p:blipFill>
            <a:blip r:embed="rId1"/>
            <a:srcRect l="0" t="0" r="5558" b="39858"/>
            <a:stretch/>
          </p:blipFill>
          <p:spPr>
            <a:xfrm>
              <a:off x="422280" y="1143000"/>
              <a:ext cx="822960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16"/>
            <p:cNvSpPr/>
            <p:nvPr/>
          </p:nvSpPr>
          <p:spPr>
            <a:xfrm>
              <a:off x="3714840" y="21099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ORDING A VOIDED CHE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53352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53352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533520" y="44546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533520" y="37180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word VOID in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33520" y="4818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lace a dash in the Cash Credi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77310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6858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3"/>
          <p:cNvSpPr/>
          <p:nvPr/>
        </p:nvSpPr>
        <p:spPr>
          <a:xfrm>
            <a:off x="32767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4"/>
          <p:cNvSpPr/>
          <p:nvPr/>
        </p:nvSpPr>
        <p:spPr>
          <a:xfrm>
            <a:off x="4114800" y="1981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5"/>
          <p:cNvSpPr/>
          <p:nvPr/>
        </p:nvSpPr>
        <p:spPr>
          <a:xfrm>
            <a:off x="13716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59:13Z</dcterms:created>
  <dc:creator>Mary Colleen McLaughlin</dc:creator>
  <dc:description/>
  <dc:language>en-US</dc:language>
  <cp:lastModifiedBy>David Combs</cp:lastModifiedBy>
  <cp:lastPrinted>1999-03-30T16:43:05Z</cp:lastPrinted>
  <dcterms:modified xsi:type="dcterms:W3CDTF">2012-10-25T15:42:19Z</dcterms:modified>
  <cp:revision>24</cp:revision>
  <dc:subject/>
  <dc:title>THE ACCOUNTING EQUATION</dc:title>
</cp:coreProperties>
</file>